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gif" ContentType="image/gif"/>
  <Override PartName="/ppt/media/image15.gif" ContentType="image/gif"/>
  <Override PartName="/ppt/media/image1.png" ContentType="image/png"/>
  <Override PartName="/ppt/media/image14.gif" ContentType="image/gif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2C79-6C16-4853-A752-B66F2F076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EE18-345B-4EEC-9439-838A47AA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FFD8-45F5-44C0-9D74-32886AB8C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1A9B-D596-4FDF-9E9A-F30415BF6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8564-B6DC-4391-B145-1D6EC39C1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680D-4FDF-403D-9F7A-713735CD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A2AC-4E43-441B-9981-59C52246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64F1-365F-4D29-8CCC-962187CC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BE6D-E20D-4A1C-B22D-36FB5719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B331-AAA8-4666-AE84-F6CC0FB6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0395-79CE-4055-A5A1-1EEC803D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AD81-6211-447E-9F99-2DC481A1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10C1-D725-47AF-9290-C557A1FD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4EE1-C9C8-4E7E-8B7B-67A15941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6596E-5FE5-4511-9020-3527CAB9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43BB-4D8B-44CF-88F9-C578F85B5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D808-1FCD-4A60-AA3F-0B3ED7655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7820-E5C5-4A19-8BE0-AA5B3D91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67BE-1611-4F2F-A912-A6FAA4F3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6EEE-93D7-470D-95EF-0C2ED174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01DE-3C2F-4FA5-992F-53475D89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F53D-6C2A-469B-A320-68F297EC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73B7-38B9-48FA-99E6-CB84B110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FBAE-82B0-47EE-A557-027D8FF4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08D8-D5A4-4AA1-AE2D-C365D0AC03F8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3156-AC3E-4995-B3BD-8AEBFEB2A2FD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image" Target="../media/image13.gif"/><Relationship Id="rId7" Type="http://schemas.openxmlformats.org/officeDocument/2006/relationships/image" Target="../media/image14.gif"/><Relationship Id="rId8" Type="http://schemas.openxmlformats.org/officeDocument/2006/relationships/image" Target="../media/image15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4" descr="children_0120.gif"/>
          <p:cNvPicPr/>
          <p:nvPr/>
        </p:nvPicPr>
        <p:blipFill>
          <a:blip r:embed="rId1"/>
          <a:stretch/>
        </p:blipFill>
        <p:spPr>
          <a:xfrm>
            <a:off x="7596360" y="5300640"/>
            <a:ext cx="1222200" cy="13683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children_0170.gif"/>
          <p:cNvPicPr/>
          <p:nvPr/>
        </p:nvPicPr>
        <p:blipFill>
          <a:blip r:embed="rId2"/>
          <a:stretch/>
        </p:blipFill>
        <p:spPr>
          <a:xfrm>
            <a:off x="6804000" y="2924280"/>
            <a:ext cx="1224000" cy="19587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6" descr="children_0133.gif"/>
          <p:cNvPicPr/>
          <p:nvPr/>
        </p:nvPicPr>
        <p:blipFill>
          <a:blip r:embed="rId3"/>
          <a:stretch/>
        </p:blipFill>
        <p:spPr>
          <a:xfrm>
            <a:off x="1042920" y="5153040"/>
            <a:ext cx="3810240" cy="17049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7" descr="children_0127.gif"/>
          <p:cNvPicPr/>
          <p:nvPr/>
        </p:nvPicPr>
        <p:blipFill>
          <a:blip r:embed="rId4"/>
          <a:stretch/>
        </p:blipFill>
        <p:spPr>
          <a:xfrm>
            <a:off x="7524720" y="189000"/>
            <a:ext cx="1368360" cy="16747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8" descr="children_0166.gif"/>
          <p:cNvPicPr/>
          <p:nvPr/>
        </p:nvPicPr>
        <p:blipFill>
          <a:blip r:embed="rId5"/>
          <a:stretch/>
        </p:blipFill>
        <p:spPr>
          <a:xfrm>
            <a:off x="250920" y="2708280"/>
            <a:ext cx="1257120" cy="1523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547640" y="1989000"/>
            <a:ext cx="6553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ен 5- сыныпқа барамын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916360" y="3716280"/>
            <a:ext cx="352872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ренинг сабағ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13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«Майшам» жаттығу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6327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4617b"/>
                </a:solidFill>
                <a:latin typeface="Tahoma"/>
              </a:rPr>
              <a:t>Оқушылар менің қолымдағы сүйкімді ойыншыққа назар аударыңыздар. Қазір ол сендердің қолдарыңнан өтеді, сыныптас достарымызға өз тілектерімізді айтамыз. Мен бастаймын, Бақыт 5 сыныпқа барғанда да сабағыңды жақсы оқып, үлгілі оқушы болуыңды тілеймін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26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826920" y="3141720"/>
            <a:ext cx="7344000" cy="16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зарларыңызға рахме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156360" y="1773360"/>
            <a:ext cx="14400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Ма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қсаты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99640" y="3141720"/>
            <a:ext cx="7775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4617b"/>
                </a:solidFill>
                <a:latin typeface="Tahoma"/>
              </a:rPr>
              <a:t>Оқушыларды ойын-жаттығулар арқылы 5-сыныпқа даярлау, оқушы көзқарасын қалыптастыру, қабілетін тануға көмектесу.</a:t>
            </a:r>
            <a:endParaRPr b="0" lang="en-US" sz="32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93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692280"/>
            <a:ext cx="213984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Өту барыс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1989000"/>
            <a:ext cx="64008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Сәлемдесу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Шағын  пікірталас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Ситуациялық жағдаяттар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«Көңіл-күй» ойын-жаттығу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 </a:t>
            </a: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«Үміт хаты» жаттығу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«Қош бол, кедергілер» жаттығу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«Май шам» жаттығу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Қорытынд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96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692280"/>
            <a:ext cx="2139840" cy="23508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7" descr="children_0127.gif"/>
          <p:cNvPicPr/>
          <p:nvPr/>
        </p:nvPicPr>
        <p:blipFill>
          <a:blip r:embed="rId2"/>
          <a:stretch/>
        </p:blipFill>
        <p:spPr>
          <a:xfrm>
            <a:off x="7524720" y="189000"/>
            <a:ext cx="136836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 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Шағын пікірталас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99640" y="2637000"/>
            <a:ext cx="727236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1-ші топ: 4-сыныпта не жеңіл, не қиын алдарыңыздағы плакатқа жазасыздар. 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2-ші топ: алдағы 5-сыныпты қалай көздеріңізге елестетесіздер? 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3-ші топ: 5-сыныптың  сынып жетекшісі қандай болғанын қалайсыз?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   </a:t>
            </a: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Содан кейін топтардан бір кісіден шығып өз ой-пікірлерін айтад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00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04640"/>
            <a:ext cx="2139840" cy="23511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" descr="children_0120.gif"/>
          <p:cNvPicPr/>
          <p:nvPr/>
        </p:nvPicPr>
        <p:blipFill>
          <a:blip r:embed="rId2"/>
          <a:stretch/>
        </p:blipFill>
        <p:spPr>
          <a:xfrm>
            <a:off x="7596360" y="5300640"/>
            <a:ext cx="12222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           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ағдаяттар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26920" y="2781000"/>
            <a:ext cx="705816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1.Таңартең сабаққа мамаң шығарып салды, екі алма, бес алып кел деп жіберді. Сен сабақтан екі алдың, мамаңа қалай айтасың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2.Есеп шығара алмадың, не істейсің?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3.Сабақтың алғашқы күндері, сабаққа дайындалмай келдің, мұғалімнен қорқып отырсың, сабақ сұрады не деп жауап бересің?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04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children_0170.gif"/>
          <p:cNvPicPr/>
          <p:nvPr/>
        </p:nvPicPr>
        <p:blipFill>
          <a:blip r:embed="rId2"/>
          <a:stretch/>
        </p:blipFill>
        <p:spPr>
          <a:xfrm>
            <a:off x="7386480" y="4292640"/>
            <a:ext cx="122400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13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«Көңіл-күй» жаттығу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6327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Менің алдымда билеттер жатыр, екі топқа   билет беріледі. Билеттің ішіндегі сөзді оқып, сол кейіпке еніп көрсетесіздер, қарсы топ тауып айту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- Сабақта ұялып тұрған бала, екі алып жылап тұрған бала, мұғалімге ренжіп тұрған бала, «5» алып қуанып тұрған бала, мақтанып тұрған бала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- Әр түрлі жануарлардың бейнесін салу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08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           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өңіл-күй түрлері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10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692280"/>
            <a:ext cx="2139840" cy="2350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Users\Venus\Desktop\Жаңа қалта (2)\67.gif"/>
          <p:cNvPicPr/>
          <p:nvPr/>
        </p:nvPicPr>
        <p:blipFill>
          <a:blip r:embed="rId2"/>
          <a:stretch/>
        </p:blipFill>
        <p:spPr>
          <a:xfrm>
            <a:off x="3059280" y="2421000"/>
            <a:ext cx="1249200" cy="1228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Users\Venus\Desktop\Жаңа қалта (2)\130.gif"/>
          <p:cNvPicPr/>
          <p:nvPr/>
        </p:nvPicPr>
        <p:blipFill>
          <a:blip r:embed="rId3"/>
          <a:stretch/>
        </p:blipFill>
        <p:spPr>
          <a:xfrm>
            <a:off x="4859280" y="2421000"/>
            <a:ext cx="1209600" cy="1209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C:\Users\Venus\Desktop\Жаңа қалта (2)\115.gif"/>
          <p:cNvPicPr/>
          <p:nvPr/>
        </p:nvPicPr>
        <p:blipFill>
          <a:blip r:embed="rId4"/>
          <a:stretch/>
        </p:blipFill>
        <p:spPr>
          <a:xfrm>
            <a:off x="6372360" y="2492280"/>
            <a:ext cx="2016000" cy="111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:\Users\Venus\Desktop\Жаңа қалта (2)\124.gif"/>
          <p:cNvPicPr/>
          <p:nvPr/>
        </p:nvPicPr>
        <p:blipFill>
          <a:blip r:embed="rId5"/>
          <a:stretch/>
        </p:blipFill>
        <p:spPr>
          <a:xfrm>
            <a:off x="1116000" y="3429000"/>
            <a:ext cx="2016000" cy="1971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C:\Users\Venus\Desktop\Жаңа қалта (2)\195.gif"/>
          <p:cNvPicPr/>
          <p:nvPr/>
        </p:nvPicPr>
        <p:blipFill>
          <a:blip r:embed="rId6"/>
          <a:stretch/>
        </p:blipFill>
        <p:spPr>
          <a:xfrm>
            <a:off x="3276720" y="3933720"/>
            <a:ext cx="1224000" cy="1246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C:\Users\Venus\Desktop\Жаңа қалта (2)\152.gif"/>
          <p:cNvPicPr/>
          <p:nvPr/>
        </p:nvPicPr>
        <p:blipFill>
          <a:blip r:embed="rId7"/>
          <a:stretch/>
        </p:blipFill>
        <p:spPr>
          <a:xfrm>
            <a:off x="4950000" y="3933720"/>
            <a:ext cx="1552320" cy="1333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C:\Users\Venus\Desktop\Жаңа қалта (2)\227.gif"/>
          <p:cNvPicPr/>
          <p:nvPr/>
        </p:nvPicPr>
        <p:blipFill>
          <a:blip r:embed="rId8"/>
          <a:stretch/>
        </p:blipFill>
        <p:spPr>
          <a:xfrm>
            <a:off x="6985080" y="4013280"/>
            <a:ext cx="118728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13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«Үміт хаты» жаттығу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755640" y="2923920"/>
            <a:ext cx="76327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4617b"/>
                </a:solidFill>
                <a:latin typeface="Tahoma"/>
              </a:rPr>
              <a:t>Оқушыларға аттары жазылған  парақтар үлестіріледі, осы оқушының қасиеттері туралы  жазу тапсырылады.</a:t>
            </a:r>
            <a:endParaRPr b="0" lang="en-US" sz="32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20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13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«Қош бол кедергілер» жаттығу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6327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4617b"/>
                </a:solidFill>
                <a:latin typeface="Tahoma"/>
              </a:rPr>
              <a:t>Сіздер 5- сыныпқа барасыздар, қорқыныштарың болады, сол қорқыныштарыңды ақ параққа түсіріңдер. Содан кейін салған қорқыныштарыңды умаждап себетке саламыз. Сөйтіп, қорқыныштарымыздан арыламыз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23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8T13:52:20Z</dcterms:created>
  <dc:creator>user</dc:creator>
  <dc:description/>
  <dc:language>en-US</dc:language>
  <cp:lastModifiedBy>Customer</cp:lastModifiedBy>
  <dcterms:modified xsi:type="dcterms:W3CDTF">2012-04-15T19:41:36Z</dcterms:modified>
  <cp:revision>3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61049</vt:lpwstr>
  </property>
</Properties>
</file>